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588B-7FB0-478E-9998-3CEB6FFD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B402-3D0D-41B3-B0FB-7001B94A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584E-FA76-4B75-BBF3-5F6E13ED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BF33-CB8B-4980-B8A7-C32D1500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6C25-6E91-4BF4-891E-A36C24F3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EC83-6913-4794-85E0-8C1EA333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B92A-12FD-4484-A92E-459FC729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5264-8139-4750-9CED-DF7BD3C1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ED0A-9C0C-4356-8279-291B312C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4DB4-BC54-4CE4-823A-0F7ECE0C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1704-8C1B-4C50-8DC8-7B8A4D01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3A966-5C79-47EC-8CCB-F9E76132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1DD8-9D2E-4D81-A088-F9C25459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8AF5-143E-4775-87EE-83337A0F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2B74-C002-4CFA-A774-7CB43CA3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AAF6-D30D-4CC4-B9DA-063BE506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9CEE-DC9B-4DC8-B3D2-10C5BE8A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3DAB-FADC-42BC-A73C-861F1C75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AA368-CFA3-4F49-89EE-3BE535B4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3C30F-E9DC-4E05-8BB8-5DEBB871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7622-C878-4B6A-AE04-1ECDB6EB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6495C-6AAE-4F22-A33C-D12CF25E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70A95-975C-4BC9-963F-4B7272B7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9A4FE-8EBF-4BF5-BBC1-040A2EA0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A8EC-C1B2-4D09-AA0E-831BEB82C9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B892-0CF1-46C6-93D4-DEB82919EC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f.net/projects/turnke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llmusic.com/" TargetMode="External"/><Relationship Id="rId2" Type="http://schemas.openxmlformats.org/officeDocument/2006/relationships/hyperlink" Target="http://www.biopipe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ci.csusb.edu/dick/cs320/handouts/uml11.md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qlfairy.sf.net/" TargetMode="External"/><Relationship Id="rId2" Type="http://schemas.openxmlformats.org/officeDocument/2006/relationships/hyperlink" Target="http://sqlfairy.sf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urnke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1907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Verdana"/>
              </a:rPr>
              <a:t>for any database sche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5468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llen Day, Sept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47480" y="3581280"/>
            <a:ext cx="534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generate a web front 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ke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known as “gmod-we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 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f.net/projects/turn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code generator produces D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 mapping and displa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A Web-based front-end for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provi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access to Chado and/or GUS </a:t>
            </a: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other GMOD web-based projects (gbrowse, textpresso, et al)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framework to “plug in” more functionality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eferences, history, shopping cart, fo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(base) schema/model model agnostic </a:t>
            </a: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sted with “All Music Guide”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www.allmusic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opipe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www.biopipe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process tracker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1600" y="213372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--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CREATE TABLE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86400" y="1660680"/>
            <a:ext cx="2743200" cy="1692000"/>
            <a:chOff x="5486400" y="1660680"/>
            <a:chExt cx="2743200" cy="1692000"/>
          </a:xfrm>
        </p:grpSpPr>
        <p:sp>
          <p:nvSpPr>
            <p:cNvPr id="117" name=""/>
            <p:cNvSpPr/>
            <p:nvPr/>
          </p:nvSpPr>
          <p:spPr>
            <a:xfrm>
              <a:off x="5829840" y="166068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"/>
                </a:rPr>
                <a:t>Directed 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0280" y="2133720"/>
              <a:ext cx="457200" cy="457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2400" y="289548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240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4852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2895480"/>
              <a:ext cx="457200" cy="4572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640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20" idx="2"/>
              <a:endCxn id="119" idx="0"/>
            </p:cNvCxnSpPr>
            <p:nvPr/>
          </p:nvCxnSpPr>
          <p:spPr>
            <a:xfrm>
              <a:off x="8000640" y="2603520"/>
              <a:ext cx="1080" cy="280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0" idx="1"/>
              <a:endCxn id="118" idx="3"/>
            </p:cNvCxnSpPr>
            <p:nvPr/>
          </p:nvCxnSpPr>
          <p:spPr>
            <a:xfrm flipH="1">
              <a:off x="7480080" y="236196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1" idx="3"/>
              <a:endCxn id="118" idx="1"/>
            </p:cNvCxnSpPr>
            <p:nvPr/>
          </p:nvCxnSpPr>
          <p:spPr>
            <a:xfrm>
              <a:off x="6718320" y="236196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6324120" y="2603160"/>
              <a:ext cx="1080" cy="292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/>
            <p:nvPr/>
          </p:nvCxnSpPr>
          <p:spPr>
            <a:xfrm>
              <a:off x="6629040" y="259092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6476760" y="259092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/>
            <p:nvPr/>
          </p:nvCxnSpPr>
          <p:spPr>
            <a:xfrm flipH="1">
              <a:off x="5943240" y="228564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5943240" y="243792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" name=""/>
          <p:cNvGrpSpPr/>
          <p:nvPr/>
        </p:nvGrpSpPr>
        <p:grpSpPr>
          <a:xfrm>
            <a:off x="6095520" y="3581280"/>
            <a:ext cx="2514960" cy="1524240"/>
            <a:chOff x="6095520" y="3581280"/>
            <a:chExt cx="2514960" cy="1524240"/>
          </a:xfrm>
        </p:grpSpPr>
        <p:grpSp>
          <p:nvGrpSpPr>
            <p:cNvPr id="133" name=""/>
            <p:cNvGrpSpPr/>
            <p:nvPr/>
          </p:nvGrpSpPr>
          <p:grpSpPr>
            <a:xfrm>
              <a:off x="7086600" y="3733920"/>
              <a:ext cx="1523880" cy="1371600"/>
              <a:chOff x="7086600" y="3733920"/>
              <a:chExt cx="1523880" cy="1371600"/>
            </a:xfrm>
          </p:grpSpPr>
          <p:pic>
            <p:nvPicPr>
              <p:cNvPr id="134" name="cookie_cutters" descr=""/>
              <p:cNvPicPr/>
              <p:nvPr/>
            </p:nvPicPr>
            <p:blipFill>
              <a:blip r:embed="rId1">
                <a:lum bright="6000"/>
              </a:blip>
              <a:stretch/>
            </p:blipFill>
            <p:spPr>
              <a:xfrm>
                <a:off x="7086600" y="4089600"/>
                <a:ext cx="152388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7086600" y="3733920"/>
                <a:ext cx="143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Templa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095520" y="3581280"/>
              <a:ext cx="838440" cy="1219320"/>
              <a:chOff x="6095520" y="3581280"/>
              <a:chExt cx="838440" cy="121932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5880" y="3581280"/>
                <a:ext cx="0" cy="1219320"/>
              </a:xfrm>
              <a:prstGeom prst="line">
                <a:avLst/>
              </a:prstGeom>
              <a:ln w="7632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6095520" y="4191120"/>
                <a:ext cx="838440" cy="0"/>
              </a:xfrm>
              <a:prstGeom prst="line">
                <a:avLst/>
              </a:prstGeom>
              <a:ln w="7632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3451320" y="1676520"/>
            <a:ext cx="1425960" cy="1616040"/>
            <a:chOff x="3451320" y="1676520"/>
            <a:chExt cx="1425960" cy="1616040"/>
          </a:xfrm>
        </p:grpSpPr>
        <p:pic>
          <p:nvPicPr>
            <p:cNvPr id="140" name="gears" descr="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>
              <a:off x="3511440" y="192096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451320" y="167652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058360" y="4876920"/>
            <a:ext cx="2105640" cy="1602000"/>
            <a:chOff x="5058360" y="4876920"/>
            <a:chExt cx="2105640" cy="1602000"/>
          </a:xfrm>
        </p:grpSpPr>
        <p:pic>
          <p:nvPicPr>
            <p:cNvPr id="143" name="gears" descr="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>
              <a:off x="5410080" y="487692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058360" y="6080040"/>
              <a:ext cx="210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Code Gene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29000" y="2514600"/>
            <a:ext cx="1676520" cy="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419720" y="4876920"/>
            <a:ext cx="838080" cy="609480"/>
            <a:chOff x="4419720" y="4876920"/>
            <a:chExt cx="838080" cy="609480"/>
          </a:xfrm>
        </p:grpSpPr>
        <p:sp>
          <p:nvSpPr>
            <p:cNvPr id="147" name=""/>
            <p:cNvSpPr/>
            <p:nvPr/>
          </p:nvSpPr>
          <p:spPr>
            <a:xfrm flipH="1">
              <a:off x="4419720" y="487692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19720" y="518148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419720" y="548640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57200" y="4191120"/>
            <a:ext cx="3731760" cy="1981080"/>
            <a:chOff x="457200" y="4191120"/>
            <a:chExt cx="3731760" cy="1981080"/>
          </a:xfrm>
        </p:grpSpPr>
        <p:pic>
          <p:nvPicPr>
            <p:cNvPr id="151" name="sprock" descr=""/>
            <p:cNvPicPr/>
            <p:nvPr/>
          </p:nvPicPr>
          <p:blipFill>
            <a:blip r:embed="rId4"/>
            <a:stretch/>
          </p:blipFill>
          <p:spPr>
            <a:xfrm>
              <a:off x="457200" y="4343400"/>
              <a:ext cx="1322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83360" y="48769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XML/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35280" y="5410080"/>
              <a:ext cx="914400" cy="76212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84800" y="419112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4760" y="4395960"/>
            <a:ext cx="685800" cy="1395360"/>
            <a:chOff x="1904760" y="4395960"/>
            <a:chExt cx="685800" cy="1395360"/>
          </a:xfrm>
        </p:grpSpPr>
        <p:sp>
          <p:nvSpPr>
            <p:cNvPr id="156" name=""/>
            <p:cNvSpPr/>
            <p:nvPr/>
          </p:nvSpPr>
          <p:spPr>
            <a:xfrm flipH="1">
              <a:off x="1904760" y="579132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904760" y="508176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904760" y="439596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3809880"/>
            <a:ext cx="3810240" cy="2667240"/>
            <a:chOff x="380880" y="3809880"/>
            <a:chExt cx="3810240" cy="2667240"/>
          </a:xfrm>
        </p:grpSpPr>
        <p:sp>
          <p:nvSpPr>
            <p:cNvPr id="160" name=""/>
            <p:cNvSpPr/>
            <p:nvPr/>
          </p:nvSpPr>
          <p:spPr>
            <a:xfrm>
              <a:off x="380880" y="4038480"/>
              <a:ext cx="3810240" cy="243864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3886200"/>
              <a:ext cx="243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5960" y="380988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Turnkey Frame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28600" y="3429000"/>
            <a:ext cx="4114800" cy="3200400"/>
            <a:chOff x="228600" y="3429000"/>
            <a:chExt cx="4114800" cy="3200400"/>
          </a:xfrm>
        </p:grpSpPr>
        <p:sp>
          <p:nvSpPr>
            <p:cNvPr id="164" name=""/>
            <p:cNvSpPr/>
            <p:nvPr/>
          </p:nvSpPr>
          <p:spPr>
            <a:xfrm>
              <a:off x="228600" y="3657600"/>
              <a:ext cx="4114800" cy="297180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3000" y="3505320"/>
              <a:ext cx="243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25360" y="3429000"/>
              <a:ext cx="24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Apache / mod_per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2286000"/>
            <a:ext cx="914400" cy="914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809880"/>
            <a:ext cx="914400" cy="914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533412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3412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/>
          <p:nvPr/>
        </p:nvCxnSpPr>
        <p:spPr>
          <a:xfrm>
            <a:off x="7543440" y="3225960"/>
            <a:ext cx="1080" cy="584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>
            <a:off x="754344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H="1">
            <a:off x="6476760" y="42667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>
            <a:off x="4978080" y="426672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/>
          <p:nvPr/>
        </p:nvCxnSpPr>
        <p:spPr>
          <a:xfrm>
            <a:off x="4978080" y="27428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H="1">
            <a:off x="6501600" y="27428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rot="5400000">
            <a:off x="6018120" y="761040"/>
            <a:ext cx="2160" cy="3048840"/>
          </a:xfrm>
          <a:prstGeom prst="bentConnector3">
            <a:avLst>
              <a:gd name="adj1" fmla="val -136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>
            <a:off x="434304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464796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>
            <a:off x="449532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 flipH="1">
            <a:off x="3454200" y="25905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/>
          <p:nvPr/>
        </p:nvCxnSpPr>
        <p:spPr>
          <a:xfrm flipH="1">
            <a:off x="3454200" y="28951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1943280" y="25905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/>
          <p:nvPr/>
        </p:nvCxnSpPr>
        <p:spPr>
          <a:xfrm flipH="1">
            <a:off x="3428280" y="3200040"/>
            <a:ext cx="61020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 flipH="1">
            <a:off x="3428280" y="41144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 flipH="1">
            <a:off x="3454200" y="44193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/>
          <p:nvPr/>
        </p:nvCxnSpPr>
        <p:spPr>
          <a:xfrm>
            <a:off x="1943280" y="28951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2514600" y="2286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/>
          <p:nvPr/>
        </p:nvCxnSpPr>
        <p:spPr>
          <a:xfrm>
            <a:off x="8001000" y="2742840"/>
            <a:ext cx="2160" cy="3048840"/>
          </a:xfrm>
          <a:prstGeom prst="bentConnector3">
            <a:avLst>
              <a:gd name="adj1" fmla="val 136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"/>
          <p:cNvGrpSpPr/>
          <p:nvPr/>
        </p:nvGrpSpPr>
        <p:grpSpPr>
          <a:xfrm>
            <a:off x="479160" y="4266720"/>
            <a:ext cx="6581880" cy="763920"/>
            <a:chOff x="479160" y="4266720"/>
            <a:chExt cx="6581880" cy="763920"/>
          </a:xfrm>
        </p:grpSpPr>
        <p:sp>
          <p:nvSpPr>
            <p:cNvPr id="198" name=""/>
            <p:cNvSpPr/>
            <p:nvPr/>
          </p:nvSpPr>
          <p:spPr>
            <a:xfrm>
              <a:off x="479160" y="466236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rivial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"/>
            <p:cNvCxnSpPr/>
            <p:nvPr/>
          </p:nvCxnSpPr>
          <p:spPr>
            <a:xfrm>
              <a:off x="4978080" y="426672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 flipH="1">
              <a:off x="6476760" y="42667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1" name=""/>
          <p:cNvGrpSpPr/>
          <p:nvPr/>
        </p:nvGrpSpPr>
        <p:grpSpPr>
          <a:xfrm>
            <a:off x="460440" y="2039760"/>
            <a:ext cx="7083000" cy="3281400"/>
            <a:chOff x="460440" y="2039760"/>
            <a:chExt cx="7083000" cy="3281400"/>
          </a:xfrm>
        </p:grpSpPr>
        <p:sp>
          <p:nvSpPr>
            <p:cNvPr id="202" name=""/>
            <p:cNvSpPr/>
            <p:nvPr/>
          </p:nvSpPr>
          <p:spPr>
            <a:xfrm>
              <a:off x="460440" y="4952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ultipath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3" name=""/>
            <p:cNvCxnSpPr/>
            <p:nvPr/>
          </p:nvCxnSpPr>
          <p:spPr>
            <a:xfrm>
              <a:off x="4978080" y="27428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/>
            <p:nvPr/>
          </p:nvCxnSpPr>
          <p:spPr>
            <a:xfrm flipH="1">
              <a:off x="6501600" y="27428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/>
            <p:nvPr/>
          </p:nvCxnSpPr>
          <p:spPr>
            <a:xfrm rot="5400000">
              <a:off x="6018120" y="761040"/>
              <a:ext cx="2160" cy="3048840"/>
            </a:xfrm>
            <a:prstGeom prst="bentConnector3">
              <a:avLst>
                <a:gd name="adj1" fmla="val -1360000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460440" y="2742840"/>
            <a:ext cx="7785360" cy="3048480"/>
            <a:chOff x="460440" y="2742840"/>
            <a:chExt cx="7785360" cy="3048480"/>
          </a:xfrm>
        </p:grpSpPr>
        <p:sp>
          <p:nvSpPr>
            <p:cNvPr id="207" name=""/>
            <p:cNvSpPr/>
            <p:nvPr/>
          </p:nvSpPr>
          <p:spPr>
            <a:xfrm>
              <a:off x="460440" y="527220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feedforward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"/>
            <p:cNvCxnSpPr/>
            <p:nvPr/>
          </p:nvCxnSpPr>
          <p:spPr>
            <a:xfrm>
              <a:off x="8001000" y="2742840"/>
              <a:ext cx="2160" cy="3048840"/>
            </a:xfrm>
            <a:prstGeom prst="bentConnector3">
              <a:avLst>
                <a:gd name="adj1" fmla="val 1360000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460080" y="4749480"/>
            <a:ext cx="4188600" cy="1195560"/>
            <a:chOff x="460080" y="4749480"/>
            <a:chExt cx="4188600" cy="1195560"/>
          </a:xfrm>
        </p:grpSpPr>
        <p:sp>
          <p:nvSpPr>
            <p:cNvPr id="210" name=""/>
            <p:cNvSpPr/>
            <p:nvPr/>
          </p:nvSpPr>
          <p:spPr>
            <a:xfrm>
              <a:off x="460080" y="55767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"/>
            <p:cNvCxnSpPr/>
            <p:nvPr/>
          </p:nvCxnSpPr>
          <p:spPr>
            <a:xfrm>
              <a:off x="434304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>
              <a:off x="464796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/>
            <p:nvPr/>
          </p:nvCxnSpPr>
          <p:spPr>
            <a:xfrm>
              <a:off x="449532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4" name=""/>
          <p:cNvGrpSpPr/>
          <p:nvPr/>
        </p:nvGrpSpPr>
        <p:grpSpPr>
          <a:xfrm>
            <a:off x="460440" y="3200040"/>
            <a:ext cx="3578040" cy="3035520"/>
            <a:chOff x="460440" y="3200040"/>
            <a:chExt cx="3578040" cy="3035520"/>
          </a:xfrm>
        </p:grpSpPr>
        <p:sp>
          <p:nvSpPr>
            <p:cNvPr id="215" name=""/>
            <p:cNvSpPr/>
            <p:nvPr/>
          </p:nvSpPr>
          <p:spPr>
            <a:xfrm>
              <a:off x="460440" y="586728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irected gra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/>
            <p:nvPr/>
          </p:nvCxnSpPr>
          <p:spPr>
            <a:xfrm flipH="1">
              <a:off x="3428280" y="41144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/>
            <p:nvPr/>
          </p:nvCxnSpPr>
          <p:spPr>
            <a:xfrm flipH="1">
              <a:off x="3454200" y="44193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/>
            <p:nvPr/>
          </p:nvCxnSpPr>
          <p:spPr>
            <a:xfrm flipH="1">
              <a:off x="3428280" y="3200040"/>
              <a:ext cx="610200" cy="610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9" name=""/>
          <p:cNvGrpSpPr/>
          <p:nvPr/>
        </p:nvGrpSpPr>
        <p:grpSpPr>
          <a:xfrm>
            <a:off x="461520" y="2590560"/>
            <a:ext cx="3576960" cy="3964320"/>
            <a:chOff x="461520" y="2590560"/>
            <a:chExt cx="3576960" cy="3964320"/>
          </a:xfrm>
        </p:grpSpPr>
        <p:sp>
          <p:nvSpPr>
            <p:cNvPr id="220" name=""/>
            <p:cNvSpPr/>
            <p:nvPr/>
          </p:nvSpPr>
          <p:spPr>
            <a:xfrm>
              <a:off x="461520" y="6186600"/>
              <a:ext cx="29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nother non-trivial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/>
            <p:nvPr/>
          </p:nvCxnSpPr>
          <p:spPr>
            <a:xfrm flipH="1">
              <a:off x="3454200" y="25905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/>
            <p:nvPr/>
          </p:nvCxnSpPr>
          <p:spPr>
            <a:xfrm flipH="1">
              <a:off x="3454200" y="28951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/>
            <p:nvPr/>
          </p:nvCxnSpPr>
          <p:spPr>
            <a:xfrm>
              <a:off x="1943280" y="25905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/>
            <p:nvPr/>
          </p:nvCxnSpPr>
          <p:spPr>
            <a:xfrm>
              <a:off x="1943280" y="28951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460080" y="3225960"/>
            <a:ext cx="7084080" cy="2108160"/>
            <a:chOff x="460080" y="3225960"/>
            <a:chExt cx="7084080" cy="2108160"/>
          </a:xfrm>
        </p:grpSpPr>
        <p:sp>
          <p:nvSpPr>
            <p:cNvPr id="226" name=""/>
            <p:cNvSpPr/>
            <p:nvPr/>
          </p:nvSpPr>
          <p:spPr>
            <a:xfrm>
              <a:off x="460080" y="4357800"/>
              <a:ext cx="207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eference / inher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/>
            <p:nvPr/>
          </p:nvCxnSpPr>
          <p:spPr>
            <a:xfrm>
              <a:off x="7543440" y="3225960"/>
              <a:ext cx="1080" cy="5846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/>
            <p:nvPr/>
          </p:nvCxnSpPr>
          <p:spPr>
            <a:xfrm>
              <a:off x="754344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not Ideal for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39880" y="2286000"/>
            <a:ext cx="1469880" cy="4443480"/>
            <a:chOff x="839880" y="2286000"/>
            <a:chExt cx="1469880" cy="4443480"/>
          </a:xfrm>
        </p:grpSpPr>
        <p:sp>
          <p:nvSpPr>
            <p:cNvPr id="231" name=""/>
            <p:cNvSpPr/>
            <p:nvPr/>
          </p:nvSpPr>
          <p:spPr>
            <a:xfrm>
              <a:off x="98892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8892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8892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/>
            <p:nvPr/>
          </p:nvCxnSpPr>
          <p:spPr>
            <a:xfrm>
              <a:off x="1445760" y="3225960"/>
              <a:ext cx="1080" cy="5846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/>
            <p:nvPr/>
          </p:nvCxnSpPr>
          <p:spPr>
            <a:xfrm>
              <a:off x="144576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839880" y="636120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 export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24080" y="2286000"/>
            <a:ext cx="1071000" cy="4406760"/>
            <a:chOff x="3124080" y="2286000"/>
            <a:chExt cx="1071000" cy="4406760"/>
          </a:xfrm>
        </p:grpSpPr>
        <p:sp>
          <p:nvSpPr>
            <p:cNvPr id="238" name=""/>
            <p:cNvSpPr/>
            <p:nvPr/>
          </p:nvSpPr>
          <p:spPr>
            <a:xfrm>
              <a:off x="312408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408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3580920" y="320040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cxnSp>
          <p:nvCxnSpPr>
            <p:cNvPr id="242" name=""/>
            <p:cNvCxnSpPr/>
            <p:nvPr/>
          </p:nvCxnSpPr>
          <p:spPr>
            <a:xfrm>
              <a:off x="3580920" y="472428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3202200" y="63244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s A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257800" y="2286000"/>
            <a:ext cx="951480" cy="4406760"/>
            <a:chOff x="5257800" y="2286000"/>
            <a:chExt cx="951480" cy="4406760"/>
          </a:xfrm>
        </p:grpSpPr>
        <p:sp>
          <p:nvSpPr>
            <p:cNvPr id="245" name=""/>
            <p:cNvSpPr/>
            <p:nvPr/>
          </p:nvSpPr>
          <p:spPr>
            <a:xfrm>
              <a:off x="525780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/>
            <p:nvPr/>
          </p:nvCxnSpPr>
          <p:spPr>
            <a:xfrm>
              <a:off x="5714640" y="3225960"/>
              <a:ext cx="1080" cy="5846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49" name=""/>
            <p:cNvCxnSpPr/>
            <p:nvPr/>
          </p:nvCxnSpPr>
          <p:spPr>
            <a:xfrm>
              <a:off x="571464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4724280"/>
              <a:ext cx="30456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62720" y="3276720"/>
              <a:ext cx="30456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43200" y="6324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317720" y="2286000"/>
            <a:ext cx="1105920" cy="4406760"/>
            <a:chOff x="7317720" y="2286000"/>
            <a:chExt cx="1105920" cy="4406760"/>
          </a:xfrm>
        </p:grpSpPr>
        <p:sp>
          <p:nvSpPr>
            <p:cNvPr id="254" name=""/>
            <p:cNvSpPr/>
            <p:nvPr/>
          </p:nvSpPr>
          <p:spPr>
            <a:xfrm>
              <a:off x="739152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9152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9152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"/>
            <p:cNvCxnSpPr/>
            <p:nvPr/>
          </p:nvCxnSpPr>
          <p:spPr>
            <a:xfrm>
              <a:off x="784836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7696080" y="4724280"/>
              <a:ext cx="30492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"/>
            <p:cNvCxnSpPr/>
            <p:nvPr/>
          </p:nvCxnSpPr>
          <p:spPr>
            <a:xfrm>
              <a:off x="7848360" y="320040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sp>
          <p:nvSpPr>
            <p:cNvPr id="260" name=""/>
            <p:cNvSpPr/>
            <p:nvPr/>
          </p:nvSpPr>
          <p:spPr>
            <a:xfrm>
              <a:off x="7317720" y="632448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bo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O’Connor (presenting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 Cl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429000" y="1828800"/>
            <a:ext cx="2819520" cy="2514600"/>
            <a:chOff x="3429000" y="1828800"/>
            <a:chExt cx="2819520" cy="2514600"/>
          </a:xfrm>
        </p:grpSpPr>
        <p:sp>
          <p:nvSpPr>
            <p:cNvPr id="264" name=""/>
            <p:cNvSpPr/>
            <p:nvPr/>
          </p:nvSpPr>
          <p:spPr>
            <a:xfrm flipV="1">
              <a:off x="3962520" y="25909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248520" y="18288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29000" y="18288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429000" y="18288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191120" y="2590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(vs SQL) Driven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243828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ostgre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8920" y="190512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=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440" y="22096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SQ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840" y="20574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2096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59092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800" y="304812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O/R Map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320040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840" y="34290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4480" y="3048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21337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251460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35053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3124080"/>
            <a:ext cx="152640" cy="152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190512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044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419112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457200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24280" y="4495680"/>
            <a:ext cx="152640" cy="152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411480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9528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48769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44197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XML / 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3400" y="40384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1240" y="480060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SVG / PNG / 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2514600"/>
            <a:ext cx="38124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3004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=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5851440"/>
            <a:ext cx="6324480" cy="0"/>
          </a:xfrm>
          <a:prstGeom prst="line">
            <a:avLst/>
          </a:prstGeom>
          <a:ln w="12708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1160" y="600408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Arial"/>
              </a:rPr>
              <a:t>Increasing platform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733920" y="2590920"/>
            <a:ext cx="0" cy="1676160"/>
            <a:chOff x="3733920" y="2590920"/>
            <a:chExt cx="0" cy="1676160"/>
          </a:xfrm>
        </p:grpSpPr>
        <p:sp>
          <p:nvSpPr>
            <p:cNvPr id="301" name=""/>
            <p:cNvSpPr/>
            <p:nvPr/>
          </p:nvSpPr>
          <p:spPr>
            <a:xfrm>
              <a:off x="3733920" y="2590920"/>
              <a:ext cx="0" cy="45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33920" y="3809880"/>
              <a:ext cx="0" cy="45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28600" y="2514600"/>
            <a:ext cx="2209680" cy="1982160"/>
            <a:chOff x="228600" y="2514600"/>
            <a:chExt cx="2209680" cy="1982160"/>
          </a:xfrm>
        </p:grpSpPr>
        <p:sp>
          <p:nvSpPr>
            <p:cNvPr id="304" name=""/>
            <p:cNvSpPr/>
            <p:nvPr/>
          </p:nvSpPr>
          <p:spPr>
            <a:xfrm>
              <a:off x="228600" y="2514600"/>
              <a:ext cx="220968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80880" y="2590560"/>
              <a:ext cx="1752840" cy="1906200"/>
              <a:chOff x="380880" y="2590560"/>
              <a:chExt cx="1752840" cy="1906200"/>
            </a:xfrm>
          </p:grpSpPr>
          <p:pic>
            <p:nvPicPr>
              <p:cNvPr id="306" name="uml11" descr="Click to &#10;download this model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80880" y="2590560"/>
                <a:ext cx="1752840" cy="169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39880" y="41284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U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362320" y="2286000"/>
            <a:ext cx="609480" cy="2286000"/>
            <a:chOff x="2362320" y="2286000"/>
            <a:chExt cx="609480" cy="2286000"/>
          </a:xfrm>
        </p:grpSpPr>
        <p:sp>
          <p:nvSpPr>
            <p:cNvPr id="309" name=""/>
            <p:cNvSpPr/>
            <p:nvPr/>
          </p:nvSpPr>
          <p:spPr>
            <a:xfrm>
              <a:off x="2362320" y="236232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2320" y="335268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4600" y="228600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327672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62320" y="449568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4600" y="441972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::Translator (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qlfairy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.sf.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0:37:18Z</dcterms:created>
  <dc:creator>jchen</dc:creator>
  <dc:description/>
  <dc:language>en-US</dc:language>
  <cp:lastModifiedBy>Scott Cain</cp:lastModifiedBy>
  <dcterms:modified xsi:type="dcterms:W3CDTF">2003-09-15T14:09:57Z</dcterms:modified>
  <cp:revision>44</cp:revision>
  <dc:subject/>
  <dc:title>Methods for Pipelining analysis of promoter regions</dc:title>
</cp:coreProperties>
</file>